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BA4-161B-4BF3-8856-E1F94875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1490-D9CC-43F7-B795-678AB998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CF1-38A8-4756-92D9-B5E2C9FB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849-5BD9-4128-A234-ECDB4083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C0BA-474B-485E-850D-9914E14E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A84-B3AC-4F3D-A714-4B9EED28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AB1B-D680-428C-8693-9E6DBB70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BF4D-DECA-4C90-9045-AC041D35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9379-3C27-40C1-9155-B5094F39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1699-E7F8-46B3-B002-902B109D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EA27-0BA0-46D5-ADA5-5BFF2E5D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5AD5-CD65-4580-9354-14707A6C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BC2D-BE46-4A90-B27E-F23A6B3CBD99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37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rabaya koştular çocuklar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 çayı şekersiz içerim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rıyoruz yıllardır onu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men sofrayı hazırlamışsınız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rtık kime güveneceksin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1T20:27:49Z</dcterms:modified>
  <cp:revision>99</cp:revision>
  <dc:subject/>
  <dc:title>KONU 1</dc:title>
</cp:coreProperties>
</file>